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81F5-A4B9-487F-999A-4EC62E5EA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554C-BB1D-418C-806B-080C425C8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EFD0-5EB5-494C-B8DC-534D3B67F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53B0-EAC3-46C4-807B-D57169DE2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A21482-F59C-4AB8-92E9-DA60E4D13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7A8081-0888-4D07-B8C9-CC1314A00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EC2987-8A50-497D-88A6-D363F0E2B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AFB82D-B10B-4F48-B907-C6FE6F9AA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D43971-9E2E-4303-9625-DFA4B5F7B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B6DEE9-0A71-4D4E-B303-BB7F3F86F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3DC3A7-610E-4D20-87A4-C0EB71DB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3F16-68D8-4C26-8BED-89DFA8ADB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794918-9397-4685-A136-E41C42F4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EA115D-6AC4-481A-A999-44CB6BEF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E45D4F-0AD5-41F1-8B70-BAE22F804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C62FBC-9DC9-4D3D-B0A0-056956CAF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EF9DBC-7645-4A9F-9135-2B7ACB1F7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F385-6C43-4EA4-92B4-4F426CA53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E2A9-F426-4067-A75A-F540213C6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72F8-024F-4407-830C-6DD917C64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6508-7C13-4F55-80E4-7D48C4694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579C-8AF3-4C86-87B9-D8545328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B898-B72D-49FC-807D-83DF09FB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4E26-35BD-49FC-B1FC-FBA27E23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8C3D3-3160-42CB-8AF0-12BF159BC55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90670-E3BA-4858-ADE3-A46CF1FF899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Go Tell The Good New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mary of 1 &amp; 2 Thessaloni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Pages 108-11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400" y="153720"/>
            <a:ext cx="822636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ummary Of 2 Thessalonians</a:t>
            </a:r>
            <a:br>
              <a:rPr sz="4000"/>
            </a:b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(1:3-12) 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6800" y="1598760"/>
            <a:ext cx="868356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comforted in your afflictions; God will ave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ul thanked them for their steadfast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knew their tri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8080" indent="-23832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d would see that justice was d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ul said that they would continue to pray that they would grow in every way, that they would glorify Christ, and that He may glorify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53720"/>
            <a:ext cx="822636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ummary Of 2 Thessalonians</a:t>
            </a:r>
            <a:br>
              <a:rPr sz="4000"/>
            </a:b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(2:1-12) </a:t>
            </a: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6800" y="1598760"/>
            <a:ext cx="86835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be disturbed by false teaching regarding the Lord’s second coming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2:1-1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ord will not return right aw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apostasy will come fir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se who do not want the truth will be given the opportunity to believe a l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ummary Of 2 Thessalonians</a:t>
            </a:r>
            <a:br>
              <a:rPr sz="4000"/>
            </a:b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(2:13-17)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salonians were called by the gospe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ul admonished the brethren to stand firm and hold the traditions that they were tau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ul prayed that Jesus would comfort their hearts and establish them in every good word and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22636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ummary Of 2 Thessalonians</a:t>
            </a:r>
            <a:br>
              <a:rPr sz="4000"/>
            </a:b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(3:1-18)</a:t>
            </a: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6800" y="1598760"/>
            <a:ext cx="868356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ul asked for their prayers so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 the word of the Lord will be received fre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 they might be delivered from wicked 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al with those who walk disorderly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out of step with the things preached to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l not obey the instructions in his first let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not minding their own busi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use to associate with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22636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ummary Of 2 Thessalonians</a:t>
            </a:r>
            <a:br>
              <a:rPr sz="4000"/>
            </a:b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(3:1-18)</a:t>
            </a: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7160" y="1598760"/>
            <a:ext cx="868680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use to associate with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 they may be asham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not count them as enem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monish them as br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ul personally signed his letters in every epistle he wro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ummary Of 1 Thessalonians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6800" y="1598760"/>
            <a:ext cx="86835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irst recorded epistle written by Pa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ten from Corinth in A.D. 51-5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othy and Silas had joined Pau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pose for the le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strengthen the faith of the Christian’s t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assure them of Christ’s return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ummary Of 1 Thessalonians</a:t>
            </a:r>
            <a:br>
              <a:rPr sz="4000"/>
            </a:b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(1:2-10)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6800" y="1599840"/>
            <a:ext cx="868356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ul, Silas and Timothy thanked God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ir turning from idols to G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ir work in the fa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ir labor of l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ir steadfastness of hope in Chr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ir conversion in spite of great affli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ummary Of 1 Thessalonians</a:t>
            </a:r>
            <a:br>
              <a:rPr sz="4000"/>
            </a:b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(2:1-16)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6800" y="1598760"/>
            <a:ext cx="86835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visit was not in vain (they did not fai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preaching was never of error, or impurity, or dece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did not seek to please men, but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ummary Of 1 Thessalonians</a:t>
            </a:r>
            <a:br>
              <a:rPr sz="4000"/>
            </a:b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(2:1-16)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6800" y="1598760"/>
            <a:ext cx="86835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worked day and night not to be a burden to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did not use flattering words, nor did they preach out of gre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had responded by accepting the gospel as God’s w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ummary Of 1 Thessalonians</a:t>
            </a:r>
            <a:br>
              <a:rPr sz="4000"/>
            </a:b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(2:17-3:10)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6800" y="1598400"/>
            <a:ext cx="868356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ul was worried that the persecution would make them give 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wanted to go to them, but Satan stopped 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sent Timothy to strengthen and encourage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othy returned with good news about their faith and l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ul was comforted by the ne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ummary Of 1 Thessalonians</a:t>
            </a:r>
            <a:br>
              <a:rPr sz="4000"/>
            </a:b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(4:1-18)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6800" y="1598760"/>
            <a:ext cx="86835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ructed on how to walk and please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version means a special kind of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stain from sexual immor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not cheat your brother in any w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 quietly and take care of your own affai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se who have died in Christ are sa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will return with Jes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ead in Christ will be raised fir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9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4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9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4" dur="2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9" dur="2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4" dur="20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9" dur="20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ummary Of 1 Thessalonians</a:t>
            </a:r>
            <a:br>
              <a:rPr sz="4000"/>
            </a:b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(5:1-28)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6800" y="1598760"/>
            <a:ext cx="86835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ime of His coming is unknown (5:1-1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ord will come as a thief in the n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s said, “Peace and Safety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fore, be warned and be rea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8080" indent="-23832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ch and be so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8080" indent="-23832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lvation is at sta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ructions for the church, and closing remarks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:12-2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5400" y="153720"/>
            <a:ext cx="822636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ummary Of 2 Thessalonians</a:t>
            </a:r>
            <a:br>
              <a:rPr sz="4000"/>
            </a:b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6800" y="1599840"/>
            <a:ext cx="868356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hort time had elapsed between the first letter and the second le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eed for a second le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clarify and correct misunderstandings from the first letter in the minds of the Thessaloni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make them aware that false teachers had presented a letter to them in his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1T00:42:13Z</dcterms:created>
  <dc:creator>robert marshall</dc:creator>
  <dc:description/>
  <dc:language>en-US</dc:language>
  <cp:lastModifiedBy>Frank D Vines</cp:lastModifiedBy>
  <dcterms:modified xsi:type="dcterms:W3CDTF">2007-03-21T21:09:26Z</dcterms:modified>
  <cp:revision>11</cp:revision>
  <dc:subject/>
  <dc:title>Go Tell The Good News</dc:title>
</cp:coreProperties>
</file>